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C29-D048-4286-88F8-8A64DA35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8CF-637A-4021-A3A2-63CDEAC3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639-A6D1-4C6C-B5FB-3F8912C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847-E138-4E54-A941-3D460B3D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F4E5-0568-4B6B-8F72-26F8D32A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C068-6FF8-4F42-BC3F-3122CE3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D01-F969-4411-8554-1DB4D742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27E3-F5B9-4A3D-BBC1-29D21DA6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CAB1-1C4F-48F6-A6AF-D775011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49F5-D29F-44EE-86AC-92D00974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48AC-3E8C-4840-A72D-B9C301B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B7B-7243-4818-94BA-80261FD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205-A925-482F-8BD5-3554FD7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CFE8-8405-440A-A4B6-89E593D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290-CA8A-4609-83DD-3DE57209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7A18-A31E-4CCA-9889-F510EF2B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8916-B9CA-4F7B-94D7-1A4A6D93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6A-F27A-4B24-A0E4-1E659996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A28-E7A1-4A5B-9867-9A372458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957-EBB4-4DCF-AC74-399F15F4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A73-1FB8-4FA5-9249-AFD1353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E5A-1FDC-4B4F-B8FE-DDFB8EA0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511-6132-409C-9D8E-FCB65DF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DF8-553C-4B5B-A400-A55A5CA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8FAF-9AAA-423D-9A46-48767A695F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8A49-A73C-48B4-9BFC-34B7F712B4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4360" y="981000"/>
            <a:ext cx="7920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"Физико-химическ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методы анализ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292104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24000" y="33336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Физико-химические методы анализа могут включать: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химические превращения определяемого соединения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растворение образц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концентрирование анализируемого компонента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маскирование мешающих веществ и других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тлич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400200">
            <a:off x="3080160" y="659520"/>
            <a:ext cx="217440" cy="720720"/>
          </a:xfrm>
          <a:prstGeom prst="downArrow">
            <a:avLst>
              <a:gd name="adj1" fmla="val 50000"/>
              <a:gd name="adj2" fmla="val 8286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8633600">
            <a:off x="5938200" y="693720"/>
            <a:ext cx="222480" cy="650880"/>
          </a:xfrm>
          <a:prstGeom prst="downArrow">
            <a:avLst>
              <a:gd name="adj1" fmla="val 50000"/>
              <a:gd name="adj2" fmla="val 731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34136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"классические"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химические методы</a:t>
            </a:r>
            <a:endParaRPr b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48360" y="1341360"/>
            <a:ext cx="37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физико-химические</a:t>
            </a:r>
            <a:endParaRPr b="1" lang="en-US" sz="1800" spc="1" strike="noStrike">
              <a:ln w="9360">
                <a:solidFill>
                  <a:srgbClr val="0066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методы анализа</a:t>
            </a:r>
            <a:endParaRPr b="1" lang="en-US" sz="1800" spc="1" strike="noStrike">
              <a:ln w="9360">
                <a:solidFill>
                  <a:srgbClr val="0066cc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70836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Аналитическим сигналом служит масса вещества или его объ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565360"/>
            <a:ext cx="4859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ccecff"/>
                </a:solidFill>
                <a:latin typeface="Verdana"/>
              </a:rPr>
              <a:t>В качестве анали-тического сигнала используют интен-сивность излучения, силу тока, электро-проводность, раз-ность потенциалов и др.</a:t>
            </a:r>
            <a:r>
              <a:rPr b="0" lang="ru-RU" sz="28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604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Важное практическое значение имеют методы, основанные на исследовании испускания и поглощения электромагнитного излучен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в различн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областя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спектр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52927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7570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К нему относится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889280"/>
            <a:ext cx="80755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Verdana"/>
              </a:rPr>
              <a:t>спектроскопия</a:t>
            </a: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 (например, люминесцентный анализ, спектральный анализ,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нефелометрия и турбидиметрия и другие)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 важным физико-химическим методам анализа принадлежат: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4456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электрохимические методы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(кондуктометрия, кулонометрия, потенциометрия и т. д.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хроматография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(газовая хроматография, жидкостная хроматография, ионообменная хроматография, тонкослойная хроматография).</a:t>
            </a:r>
            <a:r>
              <a:rPr b="0" lang="ru-RU" sz="3200" spc="-1" strike="noStrike">
                <a:solidFill>
                  <a:srgbClr val="ccecff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Verdana"/>
              </a:rPr>
              <a:t>При выполнении физико-химических методов анализа используют специальную, иногда довольно сложную, измерительную аппаратуру, в связи с чем эти методы часто называют инструментальными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609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6588000" cy="765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588000" y="0"/>
            <a:ext cx="2556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859280" y="4508640"/>
            <a:ext cx="4067280" cy="21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Автомат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итратор «Титри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весовой титр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(весовая бюретка)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967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тоды прямых измерений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Verdana"/>
              </a:rPr>
              <a:t>используют зависимость аналитического сигнала от природы анализируемого вещества и его концентрации. Зависимость сигнала от природы вещества - основа качественного анализа (потенциал полуволны в полярографии и т.д.). В некоторых методах связь аналитического сигнала с природой вещества установлена строго теоретически. Например, спектр атома водорода может быть рассчитан по теоретически выведенным формула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-757080" y="-60480"/>
            <a:ext cx="8172360" cy="6918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651640" y="4581360"/>
            <a:ext cx="3241440" cy="1898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b76"/>
                </a:solidFill>
                <a:latin typeface="Verdana"/>
              </a:rPr>
              <a:t>Методы прямых измер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0447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Методы титрования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Verdana"/>
              </a:rPr>
              <a:t>Измеряют интенсивность аналитического сигнала I в зависимости от объема V добавленного титранта. По кривой титрования I=f (V)находят точку эквивалентности и рассчитывают результат по обычным формулам титриметрического анализ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50752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Физико-химический анализ-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комплекс методов анализа физико-химических систем путем построения и геометрического анализа диаграмм состояния и диаграмм состав-свойство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3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734080"/>
            <a:ext cx="8281800" cy="89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b76"/>
                </a:solidFill>
                <a:latin typeface="Verdana"/>
              </a:rPr>
              <a:t>Метод тит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Verdana"/>
              </a:rPr>
              <a:t>Физико-химические методы анализа часто используют при определении низких содержаний (порядка 10-3% и менее), где классические химические методы анализа обычно неприменимы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2292480"/>
            <a:ext cx="8424720" cy="4565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189000"/>
            <a:ext cx="842472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60280"/>
            <a:ext cx="792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Первоначально исследования в области физико-химического анализа были сосредоточены на изучении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зависимостей температур фазовых переходов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 от состава. 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99120" cy="7850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2720" y="189000"/>
            <a:ext cx="3600360" cy="640872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6408720"/>
              <a:gd name="textAreaBottom" fmla="*/ 6233040 h 6408720"/>
            </a:gdLst>
            <a:ahLst/>
            <a:rect l="textAreaLeft" t="textAreaTop" r="textAreaRight" b="textAreaBottom"/>
            <a:pathLst>
              <a:path w="21600" h="38447">
                <a:moveTo>
                  <a:pt x="3600" y="0"/>
                </a:moveTo>
                <a:arcTo wR="3600" hR="3600" stAng="16200000" swAng="-5400000"/>
                <a:lnTo>
                  <a:pt x="0" y="34847"/>
                </a:lnTo>
                <a:arcTo wR="3600" hR="3600" stAng="10800000" swAng="-5400000"/>
                <a:lnTo>
                  <a:pt x="18000" y="384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620640"/>
            <a:ext cx="3743280" cy="73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На рубеже XIX—XX веков </a:t>
            </a:r>
            <a:r>
              <a:rPr b="1" i="1" lang="ru-RU" sz="2000" spc="-1" strike="noStrike">
                <a:solidFill>
                  <a:srgbClr val="ff3300"/>
                </a:solidFill>
                <a:latin typeface="Verdana"/>
              </a:rPr>
              <a:t>Н.С.Курнаков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оказал, что любое физ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войство 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 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является функцией состава, а для изучения фазового состояния 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использовать элект-ропроводность, вяз-кость, поверхностное натяжение, теплоем-кость, коэффициент рефракции, и друг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изические свой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260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Основа теор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48836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В основе теории физико-химического анализа лежат сформулированные </a:t>
            </a:r>
            <a:r>
              <a:rPr b="1" i="1" lang="ru-RU" sz="3200" spc="-1" strike="noStrike">
                <a:solidFill>
                  <a:srgbClr val="ff9900"/>
                </a:solidFill>
                <a:latin typeface="Verdana"/>
              </a:rPr>
              <a:t>Н. С. Курнаковым</a:t>
            </a:r>
            <a:r>
              <a:rPr b="1" i="1" lang="ru-RU" sz="32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ccecff"/>
                </a:solidFill>
                <a:uFillTx/>
                <a:latin typeface="Verdana"/>
              </a:rPr>
              <a:t>принципы соответствия и непрерывности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468360" y="260280"/>
            <a:ext cx="9361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инцип непрерывности утверждает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Verdana"/>
              </a:rPr>
              <a:t>если в системе не образуются новые фазы или не исчезают существующие, то при непрерывном изменении параметров системы свойства отдельных фаз и свойства системы в целом изменяются непрерывно.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9280" y="5950080"/>
            <a:ext cx="8640720" cy="69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6920" y="6093000"/>
            <a:ext cx="7344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360" y="260280"/>
            <a:ext cx="8677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инцип соответствия утверждает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Verdana"/>
              </a:rPr>
              <a:t>каждому комплексу фаз соответ-ствует определённый геометрический образ на диаграмме состав-свойство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630360"/>
            <a:ext cx="7775640" cy="748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885080" y="189000"/>
            <a:ext cx="1042920" cy="6381720"/>
          </a:xfrm>
          <a:custGeom>
            <a:avLst/>
            <a:gdLst>
              <a:gd name="textAreaLeft" fmla="*/ 50760 w 1042920"/>
              <a:gd name="textAreaRight" fmla="*/ 992160 w 1042920"/>
              <a:gd name="textAreaTop" fmla="*/ 50760 h 6381720"/>
              <a:gd name="textAreaBottom" fmla="*/ 6330960 h 6381720"/>
            </a:gdLst>
            <a:ahLst/>
            <a:rect l="textAreaLeft" t="textAreaTop" r="textAreaRight" b="textAreaBottom"/>
            <a:pathLst>
              <a:path w="21600" h="132134">
                <a:moveTo>
                  <a:pt x="3600" y="0"/>
                </a:moveTo>
                <a:arcTo wR="3600" hR="3600" stAng="16200000" swAng="-5400000"/>
                <a:lnTo>
                  <a:pt x="0" y="128534"/>
                </a:lnTo>
                <a:arcTo wR="3600" hR="3600" stAng="10800000" swAng="-5400000"/>
                <a:lnTo>
                  <a:pt x="18000" y="1321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c86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028000" y="476280"/>
            <a:ext cx="28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532720" y="1916280"/>
            <a:ext cx="289080" cy="43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4:41:03Z</dcterms:created>
  <dc:creator>хим</dc:creator>
  <dc:description/>
  <dc:language>en-US</dc:language>
  <cp:lastModifiedBy>Пользователь</cp:lastModifiedBy>
  <dcterms:modified xsi:type="dcterms:W3CDTF">2012-06-28T06:56:39Z</dcterms:modified>
  <cp:revision>3</cp:revision>
  <dc:subject/>
  <dc:title>Слайд 1</dc:title>
</cp:coreProperties>
</file>